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1D8-BEE7-42A6-9505-35A89B7E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BA1-4025-4EEA-AAFC-A628C1CA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CC7-037E-4CF6-9C3C-2CADC7F7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F56-5B2E-48AF-A1EE-1AF3A38F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F83-9C1A-4FEC-B39A-724ED01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8BF-7856-4232-A394-8D1755BB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DFF-5B1C-4196-8FF2-5245D1AE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EE4-657E-4753-8FF0-87050B59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15A-DD62-492C-A693-29D2BF5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D89-0AA7-40ED-B377-F73AB0B7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746-19FD-4E75-B651-689F89FD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822-A5B8-46B3-BB35-B6A8FD99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3897-8CD5-465E-B064-FB9CEEC345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ement of bootup time using Power Manag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roject Update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13192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31A-3F73-4C4D-B406-4E10C684654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.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peed up the image reading with DMA trans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art Un-hibernate earli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on with boot lo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BF9-A4B8-47B7-ADA8-6263F93FFB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34360" y="308124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740-B723-43E3-9EF6-26403ECB75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d to make bootup time faster using Suspend-to-disk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ing snapshot in each phase during development (e.g. for ver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64E-7D1B-4E27-87A5-376E01C875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ies so far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ed swsusp function onto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ed suspend2 function onto ARM (suspend2-2.2-rc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: 2.6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214-38C0-4C6C-811C-F19E88FFC6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Suspend2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-rc9: Already ported onto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-rc13: ARM support was incorporated in 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2-rc16: Now debugging ARM versio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very ho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d on  2.2-rc14 for today’s presentation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test version whose operation is confirme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E99-0E6A-41E4-A19E-860B5B1704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3809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A7C-6403-4A61-A321-0C3B16ACC6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rintk tim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 make menuconfi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Kernel hacking   ---&gt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[*] Show timing information on print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04F-FD2A-400E-8E13-B59D4CA1A0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ement Results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052640"/>
          <a:ext cx="7631280" cy="4984560"/>
        </p:xfrm>
        <a:graphic>
          <a:graphicData uri="http://schemas.openxmlformats.org/drawingml/2006/table">
            <a:tbl>
              <a:tblPr/>
              <a:tblGrid>
                <a:gridCol w="3598920"/>
                <a:gridCol w="2016000"/>
                <a:gridCol w="2016360"/>
              </a:tblGrid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start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3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919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end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2175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4119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-hibernat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72978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34920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data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32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8546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cache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6208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957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total delta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453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812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[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8444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6796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 size [MB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7968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617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speed [MB/sec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8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2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237440" y="6165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D08-141E-4E52-9804-7A300693DB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Speed of NOR FLASH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28F128J3FS-12 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bit / 120ns Read Cyc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atashee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89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 time dd if=/dev/mtdblock3 of=/dev/null \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=1024 count=1024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0.07 sys 2.2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 4.44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1F8-CDBD-44A9-8CEE-9C988F10E1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leneck analysis using performance analyzer etc.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to reduce bootup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ugging t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to analyze bug of rc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00840" y="5370480"/>
            <a:ext cx="59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KS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T?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T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D19-BDA1-4E48-9A6B-A5A669A6E9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6/JAN/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Takao Ikoma</cp:lastModifiedBy>
  <dcterms:modified xsi:type="dcterms:W3CDTF">2006-02-15T12:05:41Z</dcterms:modified>
  <cp:revision>3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